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DD5-A1D8-4126-BFB2-AC074487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08C-6994-4BBF-9386-12985C9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31D-26C9-4A8B-86BA-398B3A08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5B8-D1A2-4516-8A26-2E1DBAF1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3D3-E621-4B08-871E-87FE0B69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179-810C-48C9-A2A1-0BCC774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DCA-274E-45AB-A981-A7F20FF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786-40FC-4160-887B-94652572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439-E9F6-4583-91D7-64A17A73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E97-23B5-4E21-8A3A-67BA99F0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E9F-DC59-4771-9548-ADEF994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EE2-1055-4771-8218-C940C803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614E-7B55-4C74-ACFF-1CA153C77BB2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914400"/>
            <a:ext cx="6858000" cy="8001000"/>
            <a:chOff x="0" y="914400"/>
            <a:chExt cx="6858000" cy="8001000"/>
          </a:xfrm>
        </p:grpSpPr>
        <p:pic>
          <p:nvPicPr>
            <p:cNvPr id="42" name="Picture 9" descr=""/>
            <p:cNvPicPr/>
            <p:nvPr/>
          </p:nvPicPr>
          <p:blipFill>
            <a:blip r:embed="rId1"/>
            <a:srcRect l="0" t="4700" r="0" b="0"/>
            <a:stretch/>
          </p:blipFill>
          <p:spPr>
            <a:xfrm>
              <a:off x="0" y="914400"/>
              <a:ext cx="6858000" cy="80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AutoShape 11"/>
            <p:cNvSpPr/>
            <p:nvPr/>
          </p:nvSpPr>
          <p:spPr>
            <a:xfrm>
              <a:off x="3200400" y="1587960"/>
              <a:ext cx="609480" cy="336600"/>
            </a:xfrm>
            <a:prstGeom prst="rightArrow">
              <a:avLst>
                <a:gd name="adj1" fmla="val 50000"/>
                <a:gd name="adj2" fmla="val 452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12"/>
            <p:cNvSpPr/>
            <p:nvPr/>
          </p:nvSpPr>
          <p:spPr>
            <a:xfrm>
              <a:off x="5867640" y="2598840"/>
              <a:ext cx="304560" cy="673560"/>
            </a:xfrm>
            <a:prstGeom prst="downArrow">
              <a:avLst>
                <a:gd name="adj1" fmla="val 50000"/>
                <a:gd name="adj2" fmla="val 552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/>
            <p:cNvSpPr/>
            <p:nvPr/>
          </p:nvSpPr>
          <p:spPr>
            <a:xfrm>
              <a:off x="5943600" y="6641640"/>
              <a:ext cx="304560" cy="673560"/>
            </a:xfrm>
            <a:prstGeom prst="downArrow">
              <a:avLst>
                <a:gd name="adj1" fmla="val 50000"/>
                <a:gd name="adj2" fmla="val 552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/>
            <p:cNvSpPr/>
            <p:nvPr/>
          </p:nvSpPr>
          <p:spPr>
            <a:xfrm flipH="1">
              <a:off x="3123360" y="7820640"/>
              <a:ext cx="609480" cy="336600"/>
            </a:xfrm>
            <a:prstGeom prst="rightArrow">
              <a:avLst>
                <a:gd name="adj1" fmla="val 50000"/>
                <a:gd name="adj2" fmla="val 452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flipV="1">
              <a:off x="685800" y="6556680"/>
              <a:ext cx="304560" cy="673560"/>
            </a:xfrm>
            <a:prstGeom prst="downArrow">
              <a:avLst>
                <a:gd name="adj1" fmla="val 50000"/>
                <a:gd name="adj2" fmla="val 552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2362320" y="501156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04920" y="304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teps of the Research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17:14Z</dcterms:created>
  <dc:creator>Gene</dc:creator>
  <dc:description/>
  <dc:language>en-US</dc:language>
  <cp:lastModifiedBy>Gene</cp:lastModifiedBy>
  <dcterms:modified xsi:type="dcterms:W3CDTF">2008-03-03T17:18:03Z</dcterms:modified>
  <cp:revision>1</cp:revision>
  <dc:subject/>
  <dc:title>Slide 1</dc:title>
</cp:coreProperties>
</file>